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32F-3239-4FAD-8B38-C98B1B02E1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0E0-5A02-4466-BA17-BFC0037AEB5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889-57CB-48D5-9545-1ABF1DB732F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716C-25C1-497E-BD34-A3AF0BD014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D031-E304-49AD-87EE-79EAD9F23B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F3C8-AE2D-449F-ABEF-076DEC69F7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F097-73CD-4921-93C0-ED122B869F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63BC-F36B-4E3F-9E9B-3FFEE2484D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716E-D738-4523-BF31-CC8C1DFD81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84A0-0E1A-4FA4-B096-0E94D23D7B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6E42-D465-4AF5-BD40-9AF824F1AC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143-6734-420F-82BE-5CB2021185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F47F-6D55-49AC-AA34-8DFD0AF090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E1BF2-70ED-49F4-9818-C31430408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1B229-D19E-4405-9DB0-26948BEBDA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B87CF-D1F6-466B-A511-A50D9DA1F3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9F172-D05A-4EC1-BB1C-027ABD498C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4C678-F193-4235-AC2A-3284AAA34A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984E9-9721-430C-80E5-E6443A2B43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74050-D823-467D-89B2-AECA9B675D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F11EA-98C1-4347-A20E-26D56877CB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F8EFE-4595-4A64-B7F3-2B1B8CAC2E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14992-2DDC-416E-9817-24170ECB60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BC1D9-A71B-4C8C-B9F6-53478E704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33C7F-F947-4AAD-BFD2-207E02EBB1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B03ED-8564-4320-8078-F9AAC52ACC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5211B-9067-4E72-A7DF-D022A80A26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DA05E-173C-4ED0-B7A2-419858CEB2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8AD0C-4B19-4D1E-9C71-C2603A64F3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96472-77C5-4F7A-831C-83DDDA1433D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267D9-6520-44E6-BEF9-16AAB84101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7F7D9-A25D-4E7F-AF1F-96D2E07A6B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E4B40-633C-433A-84F7-5EF679F26F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F3212-E47D-40FB-A87D-8CB6FC2CC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EF9D-5CC4-4B17-B050-C15D0B16F57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46B9F-AA93-4103-9155-F48128A6E5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27555-DF3C-4157-8135-33D5229366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1FA6C-50D2-4116-8FF0-0C572E33887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087A-A234-4C0B-91A5-8E71234302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6C8F-5F27-4F22-92CC-CEB393417E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09C5-8621-423B-B737-9DE5D67B3CC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1469-4E12-4199-959C-04471CEDEBF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CC70-0AEB-4D8D-B9C1-0F7CBEE947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3137-38F9-429B-97D2-47F65E9825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1D1A-CC32-455C-88BC-36571E25B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47C4-0A67-488B-AB0C-3ACBD97307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F38F-4AE6-4B82-9EEE-8931210393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7C24-176B-4F45-944E-1F11E01B15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CB80-4114-4C2A-AEEF-28D3C16545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A2EF-E98E-43DD-9C7C-236E69AF62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AC2C-BC07-489C-9FA6-108AE762B8D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D7681-2413-4E8C-AA7F-6042774D661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BB0F9-8AFD-4E60-87F1-50ACAC5CCF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3B8B5-401E-4830-A323-218C779660E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C07D9-170E-41F5-AE54-F00A194407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13DC1-D141-471F-86B5-461061FB3B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BA3C-825C-4B94-A230-BA0E1FEC1B4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9DC9C-946B-48AB-BF81-5DECFF5DD8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FB95A-4922-4B79-A3B9-9090BABB95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920C4-37B2-44F8-A0DD-EFF199A03F6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80BF4-5552-43CB-8FF2-6180C3F31C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4A191-DD37-4571-9A4E-A9F1DC32316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93834-280D-4A84-B07C-A11D08AA536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43A6D-1848-4661-AF47-52C5162052C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EB6EE-C50B-4751-BD63-949AAA2928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EED2F-E2B3-4D17-A251-26C6F68B811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D363C-07D3-4287-9171-A1C938E5B2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71CB-8D93-4B26-9DE5-DA159B11718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7BECF-D1DF-4915-98AA-3365BA8478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FBD0D-70B5-428C-AFB0-023549BF52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7C2ED-A635-424C-934B-9C379C10E9B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DECE1-7C43-474E-B2DA-73EE5B8CB8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9D058-8481-4C80-9FA1-A74F7EC648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70CD2-ED06-47D3-862B-48D822137EA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D0668-2C9A-467D-8F70-9D8E15A701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F6B3E-8056-4C3A-9C8A-E68D0E79E86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51B77-2501-4180-81ED-99632A73599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4A61-F3D3-484F-87D2-7B38866CB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3A2A-C162-4F73-81A6-4B80DC834D6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024F-1254-4871-8B62-FE636F0B57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5EB0-0579-4F6D-8A12-A6728B34D4B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5296-51FA-40E8-B9E0-737F8CD8340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C2C2-EE3B-4904-8DA7-8B06940F64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07C1C-645E-48F5-932B-BE7473C312F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53C1-B76C-4FE6-812C-7390B3F62E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B816-392A-4E16-B3A4-DAA422B4E97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81C2-943C-4948-8687-5FCA38D8D29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9BDC-9170-48CC-8361-F0711876079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20C7-7C5E-4B84-8454-EF3162CF15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7E38-8BB9-4419-A7C9-DE2D9D893F4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97B7-D535-4D8D-B5ED-3B64930048F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1DB32-0FF5-4D6E-A175-5ED0485C90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46CE3-13EC-4568-B766-F23725DC42C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599E8-3CDD-450C-93D7-A96CDB45C8E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51953-C3BF-4555-A334-38CE7828F7F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B8BDE-DF31-4E2B-805B-BB171C3C93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E3982-A4FB-4B1E-9655-90B99F34396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4C795-473F-455A-B223-8E0F87D4FCC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79890-6084-48F9-A5D9-D0425ABCA18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EEABF-60DF-4CD9-AF36-575C64BA1B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067D-B4E2-4803-9768-DB9C7651DA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5929B-899E-4B8E-A955-948DBDD6B54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8FBC02-4BDC-4F6E-B0BB-B4C7C7029ED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451CA-B5F3-4DA5-BD8C-F32E324CA0A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3A90C-FF00-4ED4-9ED2-41A106FD540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1017A-D022-45F8-8413-411A802F0EE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E9789-9282-4AEA-92AC-1E6D5A86AB1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63B6A-F4A7-4056-8470-89E77C7B792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0C656-3450-4208-B2EC-2E2065663C8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4A340-A53B-489D-A94E-3778D7A27E8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BA1C4-561C-481A-B973-E2ED05AF7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159A-8183-44D4-A324-F0E7DAAB25B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0D1D6-5B12-49CF-B148-585FF3BDB58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E1892-D59A-4EF4-9C3C-7927AC16081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34EC8-4D0A-46A0-8D6C-BE3D27A46E4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7A9FD-907B-4935-8393-C831DC95572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FAA45-5A55-4884-B694-F6A768F327F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C071-C238-45B5-9323-8ED5DC31B28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A81A-3811-4F8F-A12E-BCD863F42B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11EC-6104-4D77-B049-84A4E9205E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9C1C-9972-4D1E-BE83-1D5C16BF87F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0439-2592-4412-8097-5B0DF95F8B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E530-05DF-46F1-BF06-1A62B6EF0D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ABA8-66D3-4753-8FE6-3709717DB17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D819-F21C-49D9-86F0-724D006E995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475C-2373-4A6A-8E3B-553C0A49A9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D38F2-9B24-42FC-937B-A9678DE182D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7C9E-EA67-4643-BFB2-F2914A6CA9A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8F78-53B4-4192-8866-78FAACE691B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524F-CE41-4C87-BEBE-7DEBAF9B55D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0ECE5-2A0D-4A21-A9D4-C752E3751EC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7B4F7-172F-4AD4-8D3A-474995C1F2C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157DA-27EF-4584-BCD2-ACC47A4B66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39EC-02A0-4830-B145-29F313E8399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EF8AA-506F-45DD-BB90-9E7A9B5021C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55D8E-F832-43F3-BB8D-E965A80ED78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CE5A7-212E-4264-93AE-A6BD07E4114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3BF29-C66A-4F19-9C99-A8924CED877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63FBE-9F16-4DF0-BBC2-B91DE538021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7202EB-3725-4120-87E3-0E42434618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6F7E0-D34A-4834-92DD-3533FF58169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E95BC-01ED-466C-AEAE-08DECAE02C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3C067B-F97E-4E53-8EF8-E813BCF9FD4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961FF-1BC6-425F-BA8C-EF645FE1D0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3CA0-93D7-4066-AB23-4283C2EEFA7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DECDD-165E-4A04-8074-6C54A38D3E6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CE4E6-2A0C-450D-B209-0A4C72F5E2F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5BEAC-085C-44B0-B887-B014427C183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F5C27-40DE-4AF3-9261-8CDE1319D3D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B2055-5B2C-4F2F-8505-5112FC18C56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8A5B8-659B-4902-B4A3-78227679035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88C44A-7536-4A04-B249-F1445B1BCEF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0BAC1-83D3-4895-98A6-0F665BF5BC5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FC114-2B1D-444A-B468-F30EB0ECBA2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6F614-16C5-4837-9E23-397283CE00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BACE-13EE-42CC-B8D7-81B2A7A60C8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5D18B-C36A-4A4C-9784-68ABAD9FDD0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FDFB9-0BF2-4211-9B76-944FB16C67E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81ED4-3826-447C-A3BF-F22DB6F49A9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8842-A352-4C7F-BE37-B175C6232AC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1484-CC89-4897-B00D-BD50DA158A5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C7D3-2622-4ECA-894F-0C70D291A7F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5D8C-148A-4A56-B9BF-EF2D34BC90D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7751-2C44-4A6E-82AC-15E7B1868EB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F894C-EAEA-4B60-850A-B7F17C8A0D0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6A94-AA87-4A48-A7DF-520995E696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31E0-9048-4F23-924F-DFFBE8FBB65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6EEF-5E61-4F13-9701-73C242EE0D6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D8FE-BA62-406E-B103-437259EF6AF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10E97-6399-42C9-954E-CCF4BE0455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43E45-C517-4958-BBA4-B21D94CF66D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B90AC-3A50-434D-98D3-431FDB04B89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D05AF2-F0D4-41D0-8EA7-9E6DF27E848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6BCBC-F52C-4D83-8CCC-F4AB20B8079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DC1E1A-9367-4567-9076-62BDB89D3D3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C0209-AF38-40A6-8DBB-52E59D6F80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300A0-A967-4EB8-A148-E8C62366236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2A6128-33B7-486C-BAC7-13574433638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419D9-7D66-4BA8-AC8F-0785C21D8B8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31363-C369-4748-B419-2892AC7D0CB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DBE07-EFB8-4257-A51A-7E87ECF602D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6A444-4253-40AB-942E-17CBCDD8818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5BF9A-23A3-45AB-8E1D-ECB559AACB8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567F3-1FE4-4788-B020-159655A05C8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C95E4-A557-4153-A255-5AB47D68016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79807-DEA8-406B-922A-F44BD96037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5DBEE-3FA2-4379-95EB-B475FA68410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2A9D2-26F9-448A-865D-343437D48E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128CE-4AB7-4D99-9B0D-E600E056746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681D6-83AE-4739-B201-52771458B93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10A0C-481B-4300-9591-2DA6571728C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3655B-F7F8-4802-8B94-F8B21DD4FE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72E28-50EF-4D76-89BF-D7C0682B895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0EA9F-2BC9-4723-96A9-02A0538E603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4FB0-4459-4D58-98E9-9E9C86AD147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0ED5E-7622-457E-9D1D-3CD964DAC4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D0FA-BD9C-4173-AE7F-A3325480D0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E2ED-67F3-4661-AE9C-23BC0CBD665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77AF-5BED-49E5-8537-B4B096FFA91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9DFD-789C-426A-9489-A5D5BCEEB6F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B96E-C256-4BED-854D-732CCFB2F23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9A80C-6F61-4072-8808-7C9DA9A5C52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B3AD-376C-4F41-BF08-8BA5B4EA13A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BFE31-7D93-44C6-ACA1-2825CAA4B94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A696-2D31-4F25-BDAC-B195390A363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BD23F-289B-4A2C-84A2-A9FEB379F1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BB94B-E37F-4D82-90FF-FA9A8D239B4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A63813-3D59-4FF2-AA55-64AADA435ED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EE898-0326-4E52-AF67-D15F58D1F52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2CC7F-1CEE-42AB-9D5A-8AF48C1E1AF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78FBC-0B5C-4690-92B0-043285012AC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CFBCC-9D71-46C0-9262-CAB72B183CC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C3D114-8BCB-455A-B817-4B4D01B84A3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C48DF-0929-428C-A306-E75167825C4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8C1B9-5257-468D-92CD-52DFF14B959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8BB02-7D98-44C4-AC0C-FFD858576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2F6FAF-F16E-4991-8BD0-0B9B124FB2E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05645-79ED-46A2-A5A7-3AF68684317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F8B13-C820-4439-BDAC-F94C2E11C7E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DC1D2-7C8C-4892-B32C-24FC4D40052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65248-A488-441A-A681-2412E8A179E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43B34C-B45A-4922-9333-8F763EDCA78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261199-E510-47D6-AA20-06FA5495BB8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972DF-59F3-4CCB-BD1F-EE028BB05E4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9D3DB0-04EA-46C8-B0BB-C75185565B2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CB393-C339-4961-8755-D2D931D722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145EC-1EA9-4E30-8326-4E91536B7F8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FE3A9-F4CA-4092-9AE7-1DCA9C45A18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6BC19-C52E-4901-85BD-CF55BAC9B98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147A-B032-44F4-975A-630CAE9DCC7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00A84-5EB1-433F-929B-5661E6192CE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18FF-F694-4C27-A300-D26B9A9E74A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3E52B-6B26-479C-9C45-8596143CB10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68DF9-E23E-4450-95CB-8060F875276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AF04-B447-46ED-AE2C-711AF6AE268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289DF-DB27-4E57-AD82-7489865715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7413-231B-4A7A-B6BC-92A82F98F80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CB5DD-21AE-48BB-8E7B-8272F9796E3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2665-7B78-4D4B-BF62-4A222131F54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CF8AA-4FB4-4FF2-982B-72A56C813CC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5F6BB-407A-4315-8FA8-696969E3D02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4108-4FFA-40AA-96FF-E1E823CE70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A718-808B-47E6-A945-BE8F12CFEA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BA6C-CDBD-4262-813A-4402727A9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F0D5-AFB9-4ADD-A0BA-E0CECA8EED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4AFA-3DA6-4C9F-9FE8-2B92466857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254C-231E-4F8D-8A9B-519FC5AF22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2A5D-55F2-4290-B5A1-954DF7B692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9162-4B9B-400B-AF5E-36EB65D8DF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AC29-0FD5-4028-8E21-BBBE54BA68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B4C1-0365-4CB9-A58A-758D107181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0A5D-752A-4816-8978-3E3892AA49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03D8-A2EE-4061-8769-C4AE53E924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988-6F92-4372-8ABE-9AACDC921D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D65-2399-455E-ACD1-EF190CFF2C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02A-8ABE-4E33-B345-F728C513BD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342-F93F-4882-92AF-8BE0564100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85D-A179-4E54-9AFC-DAE4758406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FE7-6339-4620-88EC-3B6D90E616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FCD-9BAF-4052-BAF0-9F7C596A7D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6C6-BAD8-47F3-B98E-54DCA9880B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8D5-3562-4318-A54B-D998E17DE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BEF-7E59-451B-A8B0-5D66914119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103-3D7A-494C-B2F9-B1B9245D6F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985-2655-4D56-A40B-2A3588D9FF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FA57-C600-4AE7-AD63-D83C34BCAF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DF3B9-675F-40A5-A4C7-5559AB6234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0FE30-9F78-478A-94B7-33E32D182F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4CD2-B4F8-46DB-B189-66B17A1BBEB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5F27B-9E83-4AD7-95B6-74C7E10D4F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FF42D-C1F9-4DCC-8DED-E3C633F6AA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4811-4EFA-42EB-BE16-45A6859DB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D2BAC-0124-43BE-94E7-19E9E8F715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04C4D-EE92-4A5A-872F-3237BD0548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647D9-7B67-4145-B752-D5F62581B1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BA9F4-8EAE-4A7B-89E4-AB2755CDDF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A978C-F746-4F79-B360-25F5947C10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3683-1D76-41EA-B2C2-97FA48A208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CEDDA-686B-4A69-84CD-B136495425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E765-1B28-4C1E-B22E-4D7F028054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269E-F5D7-45D0-B4C4-0435FB6CF7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36F85-96B5-4F9D-8B7C-32AFA04F9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C368-3D8A-46A8-85EC-6CDD85DDC0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0C39-50EC-4186-B75A-1BF9E9255D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7432-7395-4434-8E1E-56BB0BFC19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9F0B-6270-4371-95D9-EDDE639967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80152-DE2E-4AF1-A124-FEA1BE778E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0DFA-B4C8-45F4-8C19-D9FF3D69F83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54D15-42C1-492E-BE56-E57E24C7C4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33B-818C-4F67-AC0F-9A23298DED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6884-4BC6-4596-A210-26E7AF654F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A259-A9C5-440E-8845-CDF0FF18C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0CFA-01DA-476D-8E04-90CD09EC04D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597-8DFB-4FC5-9A43-161E968AF29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C18-FB8C-4B67-88BA-E1D3A88A13F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439-501F-4BDE-9862-7B10B4A1EA9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056-0261-47F6-B248-FD0B98E353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ECDE-9E7B-4E60-93D9-4BF384F70CC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48F7-33F8-4063-A1B6-7BFDA84DD9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5C5-DFB9-4321-91DD-9967E5782E5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A672-C144-40DA-8F6E-1ABB207F33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2620-5E00-4164-BBD0-CC90CB69AF7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CE57-652C-4BCF-9897-1899F49C774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A61D-1C32-419B-A4BA-C89D3CF76A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246-14D9-4867-A2E5-9401ABF78D3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EC0D-99EB-43A0-BCF0-B35A3639080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C12-E0D7-40CD-BA86-A9EE659BBE3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C95F-00CA-4E6B-A06E-5187CC0B8F8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C05-9B15-4DE9-A98D-EFF5AB91D30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A12-8681-4E17-B1B1-30348C1BF15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117-BAC2-430E-BC2F-9E35AB9CF49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73E9-76E6-4450-80F3-E14739274A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047E-3324-4A3B-8F1F-6854FF566DF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BFFF-F2D5-4318-811E-36AE78F275C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F784-F547-4277-A9A3-371AAD5B39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D54F-1AF1-4DEA-8AE7-2EFCF68140C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Ibagu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585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324000" y="5516640"/>
            <a:ext cx="871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73040" y="1727280"/>
            <a:ext cx="7978680" cy="357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728720" y="52236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382680" y="1700280"/>
            <a:ext cx="80755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 Box 3"/>
          <p:cNvSpPr/>
          <p:nvPr/>
        </p:nvSpPr>
        <p:spPr>
          <a:xfrm>
            <a:off x="1312920" y="333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176040" y="5373720"/>
            <a:ext cx="900432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* 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 Nota 2: Trabajador sin remuneración incluye a los trabajadores familiares sin remuneración y a los trabajadores sin remuneración en empresas de otros hoga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1740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53320" cy="3456000"/>
          </a:xfrm>
          <a:prstGeom prst="rect">
            <a:avLst/>
          </a:prstGeom>
          <a:ln w="0">
            <a:noFill/>
          </a:ln>
        </p:spPr>
      </p:pic>
      <p:sp>
        <p:nvSpPr>
          <p:cNvPr id="1307" name="8 CuadroTexto"/>
          <p:cNvSpPr/>
          <p:nvPr/>
        </p:nvSpPr>
        <p:spPr>
          <a:xfrm>
            <a:off x="830880" y="47973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36360" y="542124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1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1144440" y="5634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108000" y="530064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5 CuadroTexto"/>
          <p:cNvSpPr/>
          <p:nvPr/>
        </p:nvSpPr>
        <p:spPr>
          <a:xfrm>
            <a:off x="54576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1 Imagen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84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5 CuadroTexto"/>
          <p:cNvSpPr/>
          <p:nvPr/>
        </p:nvSpPr>
        <p:spPr>
          <a:xfrm>
            <a:off x="198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54160" y="3985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e 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 agosto –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2 Imagen" descr=""/>
          <p:cNvPicPr/>
          <p:nvPr/>
        </p:nvPicPr>
        <p:blipFill>
          <a:blip r:embed="rId1"/>
          <a:stretch/>
        </p:blipFill>
        <p:spPr>
          <a:xfrm>
            <a:off x="917640" y="1704960"/>
            <a:ext cx="7542000" cy="1579680"/>
          </a:xfrm>
          <a:prstGeom prst="rect">
            <a:avLst/>
          </a:prstGeom>
          <a:ln w="0">
            <a:noFill/>
          </a:ln>
        </p:spPr>
      </p:pic>
      <p:pic>
        <p:nvPicPr>
          <p:cNvPr id="1324" name="1 Imagen" descr=""/>
          <p:cNvPicPr/>
          <p:nvPr/>
        </p:nvPicPr>
        <p:blipFill>
          <a:blip r:embed="rId2"/>
          <a:stretch/>
        </p:blipFill>
        <p:spPr>
          <a:xfrm>
            <a:off x="1062000" y="3645000"/>
            <a:ext cx="72738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o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4 CuadroTexto"/>
          <p:cNvSpPr/>
          <p:nvPr/>
        </p:nvSpPr>
        <p:spPr>
          <a:xfrm>
            <a:off x="10483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239760" y="1919160"/>
            <a:ext cx="873756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1 Imagen" descr=""/>
          <p:cNvPicPr/>
          <p:nvPr/>
        </p:nvPicPr>
        <p:blipFill>
          <a:blip r:embed="rId1"/>
          <a:stretch/>
        </p:blipFill>
        <p:spPr>
          <a:xfrm>
            <a:off x="1038240" y="2349360"/>
            <a:ext cx="7205760" cy="25210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384120" y="8366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Resumen de indicadores</a:t>
            </a:r>
            <a:br>
              <a:rPr sz="2400"/>
            </a:b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Ibagué  – Total N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5 CuadroTexto"/>
          <p:cNvSpPr/>
          <p:nvPr/>
        </p:nvSpPr>
        <p:spPr>
          <a:xfrm>
            <a:off x="977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3"/>
          <p:cNvSpPr/>
          <p:nvPr/>
        </p:nvSpPr>
        <p:spPr>
          <a:xfrm>
            <a:off x="206280" y="2492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Rectángulo"/>
          <p:cNvSpPr/>
          <p:nvPr/>
        </p:nvSpPr>
        <p:spPr>
          <a:xfrm>
            <a:off x="2843280" y="1319040"/>
            <a:ext cx="6114960" cy="184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2882880" y="334800"/>
            <a:ext cx="6153120" cy="5521320"/>
          </a:xfrm>
          <a:prstGeom prst="rect">
            <a:avLst/>
          </a:prstGeom>
          <a:ln w="0">
            <a:noFill/>
          </a:ln>
        </p:spPr>
      </p:pic>
      <p:sp>
        <p:nvSpPr>
          <p:cNvPr id="1268" name="6 CuadroTexto"/>
          <p:cNvSpPr/>
          <p:nvPr/>
        </p:nvSpPr>
        <p:spPr>
          <a:xfrm>
            <a:off x="3635280" y="602136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84676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1 Rectángulo"/>
          <p:cNvSpPr/>
          <p:nvPr/>
        </p:nvSpPr>
        <p:spPr>
          <a:xfrm>
            <a:off x="3635280" y="6237360"/>
            <a:ext cx="54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mayo – octubre 2015.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852480" y="2060640"/>
            <a:ext cx="7578720" cy="335736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3"/>
          <p:cNvSpPr/>
          <p:nvPr/>
        </p:nvSpPr>
        <p:spPr>
          <a:xfrm>
            <a:off x="1438200" y="620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1221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38200" y="1461960"/>
            <a:ext cx="626760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2720" y="62064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552600" y="256536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5-09-24T21:10:51Z</cp:lastPrinted>
  <dcterms:modified xsi:type="dcterms:W3CDTF">2015-12-10T13:35:33Z</dcterms:modified>
  <cp:revision>96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